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viewing guide (Responding to Students template) under the document camera.  Participants can use it as a guide while they are viewing the video clip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may share something they learned about student thinking, something they learned from someone else, an instructional strategy they want to try,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alk for about 2 minutes about what these terms mean to them.  Then have them look at the Brookhart BLM to see how she defines each ter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found that in the professional resources on feedback, there are not many that contain mathematics examples. On the document camera, show samples of criteria from Anne Davies (Setting and Using Criteria, p. 23), and Susan Brookhart (How to Give Effective Feedback to Your Students, p. 90-93).  These samples focus on the processes in mathematics (problem solving, communic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iscuss the question with an elbow partner.  Then open the discussion to the group.  Can you give descriptive feedback to the students in the same way if the student needs assistance with content (e.g., multiplicative thinking) rather than process (e.g., communication)? Discuss:  What  does content feedback look lik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how in CIL-M sessions we tried to have a break between the Action and Consolidation phases of the lesson so we could reflect as a group on the work we were seeing and the conversations we heard.  This was valuable because we were able to reflect, pool our experience and really look closely at what the students were thinking, without other distracters that you may have in the classroom.  Working with a partner or a group is very valuable for our professional learning and benefits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D7D5F-670C-4D0D-BC1A-6EBBDB320E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52EF9-DD15-45AE-971A-D6B7D3FD52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92B916-E6C1-40F2-AAE5-D3F690E10A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F65355-BE93-486C-B9BC-7783F99B61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F4008-3376-4049-B834-10E315E2B7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8127B-7B9B-4C0C-884C-4264D39BE0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6720E-0357-453E-BF83-44974A556E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3C8CCACC-6043-4D75-827A-36DB9DC81D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C7EB0CF-8319-46A6-9948-8556E0CCD2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F4F61-57F6-40CC-B95B-8B4CCC820B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62CEA-C282-4CC9-BB74-27B7019824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D1A4D-EF39-4AD9-BAB1-CE7B182CF2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8202-4342-4FBA-BDC0-3CDA61D565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D411-BA4B-4CEE-9D58-C44D51F5D1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3</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5" name="PlaceHolder 2"/>
          <p:cNvSpPr>
            <a:spLocks noGrp="1"/>
          </p:cNvSpPr>
          <p:nvPr>
            <p:ph/>
          </p:nvPr>
        </p:nvSpPr>
        <p:spPr>
          <a:xfrm>
            <a:off x="380880" y="129492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the video segments listed for your grad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viewing guide to assist you in viewing the segmen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K and the 2/3 groups have finished viewing and discussing their videos, you will share your findings with the rest of your team.</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371A-6C5F-4471-BBC2-367E43388F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esenting ‘Your’ Students</a:t>
            </a:r>
            <a:endParaRPr b="0" lang="en-US" sz="4400" spc="-1" strike="noStrike">
              <a:solidFill>
                <a:srgbClr val="2b5ca9"/>
              </a:solidFill>
              <a:latin typeface="Arial"/>
            </a:endParaRPr>
          </a:p>
        </p:txBody>
      </p:sp>
      <p:sp>
        <p:nvSpPr>
          <p:cNvPr id="7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your students to your team.</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about what your students can do, where they are on the multiplicative thinking continuum and what you think your students need (content/process).</a:t>
            </a: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CA3F-BCC8-4220-93D6-16052E62A4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A and Team B will problem solve together the answer to the question:</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am I going to do with these students</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morrow?</a:t>
            </a:r>
            <a:endParaRPr b="0" lang="en-US" sz="3200" spc="-1" strike="noStrike">
              <a:solidFill>
                <a:srgbClr val="000000"/>
              </a:solidFill>
              <a:latin typeface="Arial"/>
            </a:endParaRPr>
          </a:p>
        </p:txBody>
      </p:sp>
      <p:sp>
        <p:nvSpPr>
          <p:cNvPr id="8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4C9F-CFEB-4A34-AEF0-5976616297F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e Best Thing…</a:t>
            </a:r>
            <a:endParaRPr b="0" lang="en-US" sz="4400" spc="-1" strike="noStrike">
              <a:solidFill>
                <a:srgbClr val="2b5ca9"/>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your teams, share the best thing</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out examining student work</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gether today…</a:t>
            </a:r>
            <a:endParaRPr b="0" lang="en-US" sz="4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7BEB-5E55-4372-BA37-3403C0EF2CF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On Your Own…</a:t>
            </a:r>
            <a:endParaRPr b="0" lang="en-US" sz="4400" spc="-1" strike="noStrike">
              <a:solidFill>
                <a:srgbClr val="2b5ca9"/>
              </a:solidFill>
              <a:latin typeface="Arial"/>
            </a:endParaRPr>
          </a:p>
        </p:txBody>
      </p:sp>
      <p:sp>
        <p:nvSpPr>
          <p:cNvPr id="87" name="PlaceHolder 2"/>
          <p:cNvSpPr>
            <a:spLocks noGrp="1"/>
          </p:cNvSpPr>
          <p:nvPr>
            <p:ph/>
          </p:nvPr>
        </p:nvSpPr>
        <p:spPr>
          <a:xfrm>
            <a:off x="457200" y="13712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journals, list some people you would b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partner with to try out tasks and to examin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work together.</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how you can make it happen in the</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possible barriers and solutions?</a:t>
            </a:r>
            <a:endParaRPr b="0" lang="en-US" sz="28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1C7E-ACDB-4A5C-B3C3-949598533C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20492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ession Goals</a:t>
            </a:r>
            <a:endParaRPr b="0" lang="en-US" sz="4400" spc="-1" strike="noStrike">
              <a:solidFill>
                <a:srgbClr val="2b5ca9"/>
              </a:solidFill>
              <a:latin typeface="Arial"/>
            </a:endParaRPr>
          </a:p>
        </p:txBody>
      </p:sp>
      <p:sp>
        <p:nvSpPr>
          <p:cNvPr id="51" name="PlaceHolder 2"/>
          <p:cNvSpPr>
            <a:spLocks noGrp="1"/>
          </p:cNvSpPr>
          <p:nvPr>
            <p:ph/>
          </p:nvPr>
        </p:nvSpPr>
        <p:spPr>
          <a:xfrm>
            <a:off x="457200" y="1218960"/>
            <a:ext cx="8229600" cy="5257800"/>
          </a:xfrm>
          <a:prstGeom prst="rect">
            <a:avLst/>
          </a:prstGeom>
          <a:noFill/>
          <a:ln w="0">
            <a:noFill/>
          </a:ln>
        </p:spPr>
        <p:txBody>
          <a:bodyPr lIns="50760" rIns="90000" tIns="50760" bIns="50760" anchor="t">
            <a:normAutofit/>
          </a:bodyPr>
          <a:p>
            <a:pPr marL="649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ulate the challenges and benefits of giving descriptive feedback in mathematics</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student work and identify where it belongs on the multiplicative thinking continuum</a:t>
            </a:r>
            <a:endParaRPr b="0" lang="en-US" sz="2800" spc="-1" strike="noStrike">
              <a:solidFill>
                <a:srgbClr val="000000"/>
              </a:solidFill>
              <a:latin typeface="Arial"/>
            </a:endParaRPr>
          </a:p>
          <a:p>
            <a:pPr marL="649440" indent="-6098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ly develop instructional strategies for proportional reasoning/multiplicative thinking based on student needs</a:t>
            </a:r>
            <a:endParaRPr b="0" lang="en-US" sz="28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24A1-629E-4D36-8C42-8D99E79FB53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3"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798E-FE11-4A7D-9BBF-3EF82A314A4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escriptive Feedback in Mathematics</a:t>
            </a:r>
            <a:endParaRPr b="0" lang="en-US" sz="4400" spc="-1" strike="noStrike">
              <a:solidFill>
                <a:srgbClr val="2b5ca9"/>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the following statement:</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iving descriptive feedback in</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thematics is the same as giving</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criptive feedback in literacy.</a:t>
            </a:r>
            <a:endParaRPr b="0" lang="en-US" sz="3200" spc="-1" strike="noStrike">
              <a:solidFill>
                <a:srgbClr val="000000"/>
              </a:solidFill>
              <a:latin typeface="Arial"/>
            </a:endParaRPr>
          </a:p>
        </p:txBody>
      </p:sp>
      <p:sp>
        <p:nvSpPr>
          <p:cNvPr id="5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2621-FE47-482B-829A-C73A61E5B0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our Corners</a:t>
            </a:r>
            <a:endParaRPr b="0" lang="en-US" sz="4400" spc="-1" strike="noStrike">
              <a:solidFill>
                <a:srgbClr val="2b5ca9"/>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e how you feel about the statement.</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corner of the room that reflects your feelings-Strongly Agree, Agree, Disagree or Strongly Disagree.</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to that corner and talk with the other people in your group.</a:t>
            </a:r>
            <a:endParaRPr b="0" lang="en-US" sz="3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the highlights of your corner discussion with the whole group.</a:t>
            </a:r>
            <a:endParaRPr b="0" lang="en-US" sz="30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2706-32CB-4AAC-8F53-FB5E62AB16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rom the Plenary…</a:t>
            </a:r>
            <a:endParaRPr b="0" lang="en-US" sz="4400" spc="-1" strike="noStrike">
              <a:solidFill>
                <a:srgbClr val="2b5ca9"/>
              </a:solidFill>
              <a:latin typeface="Arial"/>
            </a:endParaRPr>
          </a:p>
        </p:txBody>
      </p:sp>
      <p:sp>
        <p:nvSpPr>
          <p:cNvPr id="6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2D85-AAC1-4E56-892B-08789C4888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Rectangle 2" descr=""/>
          <p:cNvPicPr/>
          <p:nvPr/>
        </p:nvPicPr>
        <p:blipFill>
          <a:blip r:embed="rId1"/>
          <a:stretch/>
        </p:blipFill>
        <p:spPr>
          <a:xfrm>
            <a:off x="2514600" y="2057400"/>
            <a:ext cx="4059360" cy="301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o we mean by…?</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38862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
            </a:r>
            <a:endParaRPr b="0" lang="en-US" sz="32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C05E-7E93-4D39-BADB-E7FA2BDBCAE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xamples of Criteria and Feedback in Mathematics</a:t>
            </a: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otice about these samples of criteria and feedback?</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journals, using this 3-2-1 graphic organizer as a frame, think about what you like, don’t like and what fits with your thinking.</a:t>
            </a:r>
            <a:endParaRPr b="0" lang="en-US" sz="3200" spc="-1" strike="noStrike">
              <a:solidFill>
                <a:srgbClr val="000000"/>
              </a:solidFill>
              <a:latin typeface="Arial"/>
            </a:endParaRPr>
          </a:p>
        </p:txBody>
      </p:sp>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6A46-080F-41F7-AE4B-283210923D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352E-987A-4A81-991B-7E176BA5A3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 name=""/>
          <p:cNvSpPr txBox="1"/>
          <p:nvPr/>
        </p:nvSpPr>
        <p:spPr>
          <a:xfrm>
            <a:off x="743040" y="3112920"/>
            <a:ext cx="7657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about content feedback?</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dback with More Time…</a:t>
            </a: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work in teams to examine student thinking and decide on what our teacher actions will b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A and Team B will divide into a K group and a 2/3 group to examine student interviews for proportional reasoning tasks.</a:t>
            </a: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47CD-7313-4F10-A484-669EC93B56B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User</cp:lastModifiedBy>
  <dcterms:modified xsi:type="dcterms:W3CDTF">2011-08-13T23:31:10Z</dcterms:modified>
  <cp:revision>46</cp:revision>
  <dc:subject/>
  <dc:title>&lt;Title&gt;</dc:title>
</cp:coreProperties>
</file>